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9B30-4EEC-4BAF-9D5C-18A29A613D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ca Claro que este grupo de amigos sofre de diversidade de preferências. Eles querem sair juntos, mas para lugares diferentes. Como resolver este proble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B52F-4423-48CF-8766-FB0A3BE5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213B-DB81-47B8-B72E-DB49C5A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FADA-8F0E-4E74-A5FF-1F47B8FA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0979-B324-4106-849F-C1121181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5990-BA64-4393-BDE8-C0D0A6C6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8BB2-0883-4DF1-8BAB-A4D38D43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AD37-9389-42E2-A33C-84A2E69F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586-7DE1-45E1-8EC3-AA11FED1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8533-B552-42B2-94CC-2F2E17B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D323-D4EE-412A-8D54-60C1B97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AB00-0F73-40D9-92D0-F35CC3F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8BF3-5005-4999-97F2-7FE9A3C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0352-3E45-4DD3-9F98-EB23D14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A823-956A-4DBB-BC78-3B849E8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9594-3E01-4493-AC03-F1AC55C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89F8-B944-40D6-A8B2-7FC80B90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19B1-64BA-4C4F-B12F-7E607143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2E46-9DB8-41C6-A9D1-17C5F42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026A-D7E6-4039-B333-E7D61E15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68D4-3375-4502-8012-A8F13D9B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EA22-074D-46A2-B819-54A9BB5C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4218-8EDB-4EA1-BEFF-BBF10EA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F31F-7A99-4A1E-B233-D114E5F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5DD7-AA42-47CC-880F-350E348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99F-F7FE-4200-B479-C9A9E5F00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8839-F3CD-4D88-9EBC-E6515BC08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ula 10 (10/11/2004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Modelo Espacial, Voto Majoritário e Teorema do Voto Mediano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orias Cícl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4259160" cy="3886200"/>
        </p:xfrm>
        <a:graphic>
          <a:graphicData uri="http://schemas.openxmlformats.org/drawingml/2006/table">
            <a:tbl>
              <a:tblPr/>
              <a:tblGrid>
                <a:gridCol w="1419480"/>
                <a:gridCol w="1419840"/>
                <a:gridCol w="141984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5435640" y="2060640"/>
            <a:ext cx="3384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{1, 3} prefere ‘a’ em relação a ‘b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{1, 2} prefere ‘b’ em relação a ‘c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{2, 3} prefere ‘c’ em relação a ‘a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iclo de Condorcet versus Condorcet venced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gra da maioria é muito boa quando o número de indivíduo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e preferência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são reduz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= [# de indivíduos /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!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nosso exemplo, Pr (3, 3) = 12 / 216 = 0.056; ou seja, 12 possibilidades de ciclos e 204 de vencedores consistentes sob a regra da mai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babilidade de intransitividade (ciclos) em preferências majoritárias é uma razão do tamanho do grupo (n) e do número de alternativas (m) disponí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 display 4.2 e 4.3 pp. 51 e 52; e Tabela 4.1 pp. 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possível se fiar na regra da maioria para representar o que de fato o grupo prefere, especialmente se não existem mecanismos institucionais que restrinjam a participação (mant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queno) bem como não leve em consideração algumas das alternativas (mant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que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a espécie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ade-of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racionalidade social e concentração de poder. Sociedades que concentram poder oferecem maiores chances de coerência social nas suas decisões coletivas; já nas sociedades que dispersam poder, embora pareçam mais democráticas, tem menos chances de tomar decisões majoritariamente co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orema de Arr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row acreditava que os problemas de incoerências em escolhas sociais apontados pelo paradoxo de Condorcet (agregação de preferências individuais em preferência do grupo) poderiam ser mitigados se a estrutura do arranjo institucional de tomada de decisão social fosse diferente (ele ganhou o Prêmio Nobel pelo seu trabalh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cial Choice and Individual Valu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195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ções mínimas para uma agregação ‘razoável’ das preferências individu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abilidade entre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itividade na escolha de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missibilidade Universal (U) d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Ótimo de Pareto ou Unanimidade (P) = se todos os membros de um dado grupo preferem a alternativa ‘j’ sobre a ‘k’ (ou é indiferente entre elas) a preferência do grupo também deve refletir esta pre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ependência das Alternativas Irrelevantes (I) = se as alternativas ‘j’ e ‘k’ tem uma ordem particular e constante para cada membro do grupo, esta preferência no grupo tende a se reproduzir mesmo se houver mudanças sobre outras alternativas ir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itadura (D) = Não exista nenhum indivíduo que dite de forma autoritária a sua preferência n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e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existe mecanismo que traduza as preferências de indivíduos racionais em preferências coerentes de um grupo que simultaneamente satisfaça as condições U, P, I e 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quer esquema que satisfaçam as  condições U, P e I ou são ditatoriais ou incoerentes (intransitiv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sto significa que sempre a agregação de preferências é inconsistente ou inju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aneira nenhuma, afirma Shepsle. Como visto, o exemplo dos três eleitores e três alternativas, á regra da maioria fornece coerência nas preferências de um grupo em 204 das 216 possíveis interações satisfazendo as condições U, P, I e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método apenas não garante coerência de preferências no grupo em todas as situ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seja, a pressuposição da racionalidade é violada no grupo em algumas ocasi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íduos são racionais, mas os grupos nem semp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 Espacial e a Regra da Maior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referências de Pico Únic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um tipo de consenso que facilita a coerência das decisões majoritár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can Black acreditava que formas de consenso próximas da unanimidade podem ser suficientes para produzir coerência nas decisões cole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orema de Pico Único de Blac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ndo um conjunto de alternativas ‘A’ que um grupo ‘G’ de indivíduos tem que escolher, se para cada sub-conjunto de três alternativas em ‘A’, uma dessas alternativas não é ‘nunca pior’ dentre as três disponíveis para cada membro do grupo, então este é um consenso suficiente para que o método da regra majoritária ofereça transitividade (ausência de ciclos, caos) nas preferências do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seja, as preferências dos membros de um grupo são consideradas de pico único se as alternativas disponíveis puderem ser representadas como pontos em uma linha e cada uma das utilidades atingiriam o seu ponto máximo em um dado ponto desta linha e diminuiria sua utilidade o distanciamento ou desvio deste pont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orema do Voto Mediano (Bla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s membros de um dado grupo ‘G’ têm uma preferência de Pico Único, então o ponto ideal do voto mediano tem uma áre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s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vazio. Ou seja, Não existe outro ponto alternativo melhor (ou menos pior) do que o pico único que possa ser preferido pelas maiorias possíveis. (ver figura 5.3, pp. 86 – 89). Assim o pico será a escolha da mai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tanto, 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s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dado ponto ‘x’ não estiver vazio (existem outros pontos melhores para a maioria) então é mais difícil se justificar a escolha de ‘x’. Ou seja, as preferências do grupo são inconsistentes uma vez que algumas maiorias preferirem outra alternativa dentre as dispo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olha Soci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mo quando membros de um grupo possuem preferências coerentes – comparáveis e transitivas – o grupo pode não se comportar coerente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 seja, a preferência do grupo pode ser intransitiva e por isso ser cíclica com diferentes coalizões majoritárias dando apoios a cada coalizão vence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posiçõ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os grupos sejam formados um número impar de particip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todos os participantes participem tot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os participantes são sincer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que dizer das situações multidimensiona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e Plott: Se eleitores possuem preferências distantes espacialmente; se seus pontos ideais forem distribuídos de forma simétrica; com um dado ponto ideal ‘x’ distinto sobre os demais; e com o número impar de eleitores; então o winset será vazio e as preferências do grupo co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o Caos de McKelvey: em espaçõs multidimensionais, com a exceção da rara distribuição simétrica de pontos que raramente ocorre naturalmente, não existirá um winset vazio proporcionado pela regra majoritária. Ao invés disso, haverá o caos – s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dorcet wi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onde qualquer coisa pode acontecer e quem controlar a ordem da votação poderá determinar o resultad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oto Mediano(Anthony Dow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eleições, competidores tendem ao centro. Por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ncer não é tudo, mas é a única coisa que import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isso, existe uma convergência comum do ponto ideal do voto mediano. Esta tendência centrípeta é exatamente o que foi predito pelo Teorema do voto mediano de Black. Precisamente, o modelo de Downs oferece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tiona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porque a regra majoritária é centríp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dizer de situações quando um terceiro candidato resolve entrar na disputa. A regra majoritária continuaria a exercer este papel centríp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ição de Preferênci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á que a regra da maioria resolveria este proble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rápida inspeção na tabela anterior sugere que a regra da maioria não é um bom método para solucionar este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que dizer então se forem instituídos dois turnos de vot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3683160"/>
                <a:gridCol w="1152360"/>
                <a:gridCol w="33940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 vs. Concer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 vence por 2-1 {B, 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 vs. Futeb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 vence por 2-1 {B, 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 vs. Futeb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 vence por 2-1 {A, B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çõ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para o concerto é a preferência majoritária diante dos dois turnos de vo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maiorias preferem ir para o concerto. O jogador “B” é o único membro comum destas distintas mai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çõ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ra da maioria em turno único não proporciona resultados consistentes e não ambíguos. Em dois turnos, apenas se os jogadores jogam de forma sinc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até agora assumiu que os jogadores (amigos) revelaram de forma honesta (sincera) as suas preferênc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dizer das situações de voto estratégico ou sofistica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e o número de jogadores e de alternativas forem maiores do que trê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m muitas formas de se votar e a decisão sobre qual regra adotar terá um impacto decisivo para se determinar o vence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trolar a agenda faz diferenç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981080"/>
          <a:ext cx="8229600" cy="4694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cedor é 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cedor é 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cedor é 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Paradoxo de Condorc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quando cada indivíduo que pertence a um grupo têm preferências que são consistentes (completas e transitivas) isso não é necessariamente verdadeiro para o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disjunção entre as preferências do grupo e as preferências individuais é conhecida como paradoxo de Condorcet (cientista e matemático francês do século dezoi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0:12:56Z</dcterms:created>
  <dc:creator>Carlos Pereira</dc:creator>
  <dc:description/>
  <dc:language>en-US</dc:language>
  <cp:lastModifiedBy>Carlos Pereira</cp:lastModifiedBy>
  <dcterms:modified xsi:type="dcterms:W3CDTF">2004-11-10T16:10:44Z</dcterms:modified>
  <cp:revision>36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6218327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Teoria dos Jogos Novas aulas</vt:lpwstr>
  </property>
</Properties>
</file>